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6F0-B091-4004-8E02-7E4CF4D9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E17-1BF3-44C0-9251-7F500AD0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97F-9565-43B9-9A56-87C2BCF8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9A8-6DFE-4F56-BAAA-83C8D555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4688-D71E-43AD-A27F-53E8C95E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A70F-42A5-45CA-9C21-7EF6C4B6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565D-ACCF-4FD1-8769-4A2AB123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424A-7207-4EA9-B4AC-5E5E9592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4327-75CF-4B28-BA79-DC9EEE64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A2A6-3E23-40E3-A23F-A6FEB975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99FB-CA17-461D-8E11-E67594F6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F5E-1D67-4C54-92B3-E93BA5C5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30C2-17DC-4DD3-992F-8C9AA32C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A11B-A04A-4747-A106-4FCA3286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CDAF-8BA4-4A14-8A78-744EA9AA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4878-469B-4FDE-BCE0-3E9F96E4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D847-BA05-4FEF-B921-A8415C81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BCE-BA1D-4922-B28C-66A31D85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80C-4BD2-44E5-B252-ABBB7BBB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DD8-C588-46F7-928D-DD400E20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BAE-2F7D-46B1-8200-83BF52C1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857-1A5B-49B1-A850-6F50D6B9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923-C28B-4EA6-881B-AA06ED09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105-ACF3-4345-9FCC-EC1CC742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60DB-D891-415D-9941-6E4151606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1E8C-11D9-4785-8D0D-38CDAC93D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3048120"/>
            <a:ext cx="7391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ЕССЫ И ЕГО ВЛИЯНИЕ НА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70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Заключение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тресс представляет собой ответ организма на действие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любого стрессового фактора В зависимости от силы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продолжительност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тресс может приносить либо пользу, либо вред Высокий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Уровень стресса, длительно поддерживающий любым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фактором, может сильно ослабить организм Каждому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человеку необходимо овладеть эффективными методам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борьбы со стрессом, чтобы держать свое эмоциональное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остояние под контролем Любой человек переживает в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жизни эмоциональные трудности Если они вызваны с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тяжелыми утратами или другими независящими от нас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обстоятельствами, если переживания очень сильны ил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затянулись, имеет смысл обратиться за помощью к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пециалисту  Современные методы лечения помогают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эффективно решать большинство эмоциональных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проблем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907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Стре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447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Реакция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43000" y="5335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Стрессовые факт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295280"/>
            <a:ext cx="807696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Times New Roman"/>
              </a:rPr>
              <a:t>Любое воздействие, которое вызывает стрессовый 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Times New Roman"/>
              </a:rPr>
              <a:t>Перемены в жизни ( брак, развод, новая работа, каникул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Times New Roman"/>
              </a:rPr>
              <a:t>Эмоциональный конфл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Times New Roman"/>
              </a:rPr>
              <a:t>Любая сильная эмо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Times New Roman"/>
              </a:rPr>
              <a:t>Стр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Times New Roman"/>
              </a:rPr>
              <a:t>Устал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Times New Roman"/>
              </a:rPr>
              <a:t>И друг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533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акие заболевания вызывает стре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905120"/>
            <a:ext cx="800100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Болезни сердц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Инфекционные заболев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Ра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Расстройства пищевар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120" y="609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Стресс связанный с рабо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371600"/>
            <a:ext cx="8001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величение рабочег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трицательное отношение к данной работе или к работе вооб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Слабые навыки в принятии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Малоактивный образ в жизни, недостаточная физическая вынослив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щущение несоответствия занимаемой долж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Злоупотребление алкогол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тсутствие навыков межличностного об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304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Times New Roman"/>
              </a:rPr>
              <a:t>Общие принципы борьбы со стресс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447920"/>
            <a:ext cx="67057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Научиться по-новому смотреть на жиз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Быть оптимис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Регулярно заниматься физическими упражне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Стремиться к разумной организова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Учиться говорить 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Учиться радоваться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Не быть максималис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Не концентрироваться на се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Не копаться в прошл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Питаться правиль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Высып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Не злоупотреблять алкого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пособы борьбы со стрессом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изические упражнен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лубокое дых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сслабл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трыв от повседнев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иологическая обратная связ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ипно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асса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нижение темпа жизн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ересмотр жизненных позици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bcbcb"/>
                </a:solidFill>
                <a:latin typeface="Times New Roman"/>
              </a:rPr>
              <a:t>Психологические механизмы защиты от стресса</a:t>
            </a:r>
            <a:endParaRPr b="0" lang="en-US" sz="3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давление – это процесс оттеснения вызывающих стресс воспоминаний, мыслей или чувств в сферу подозр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екция – это прием, которым мы пользуемся для оправдания собственных недостатков, дурных поступков или побуждени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bcbcb"/>
                </a:solidFill>
                <a:latin typeface="Times New Roman"/>
              </a:rPr>
              <a:t>Регрессия – проявляется в наших попытках вести себя так, как мы вели себя в какие-то либо более ранние периоды в нашей жизни</a:t>
            </a:r>
            <a:endParaRPr b="0" lang="en-US" sz="3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ционализация – человек оказавшийся в стрессовой ситуации, не анализирует ее причину, а также ищет себе оправд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ормирование реакции - люди часто стараются замаскировать какую-то плохую черту, стимулируя другое, противоположное свойство или повед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ублимация – это преобразование социально неприемлемых побуждений в приемлемое повед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7:22:34Z</dcterms:created>
  <dc:creator>Гуля</dc:creator>
  <dc:description/>
  <dc:language>en-US</dc:language>
  <cp:lastModifiedBy>Малышева</cp:lastModifiedBy>
  <dcterms:modified xsi:type="dcterms:W3CDTF">2011-01-24T18:42:3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